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671-5AC4-4698-B0AE-2BE3202E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815-BA09-48DB-8DE0-0000CB41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E4B-EFE1-462D-94FC-8863E5C2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D71-60A4-4D56-89C8-612ED99A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D0DE-E17A-460B-B449-2C571C6C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B0B7-A8C2-44AD-8BC3-5A924486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75C5-B163-4354-B97A-9E49F822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6EA1-88E7-4D3B-808C-2ECA03E4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E7A0-B710-482C-A5D6-2B7954A2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F701-4634-423D-A055-33B3D8A8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6361-2BBB-4508-919F-068C9185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C11-4781-450A-9356-8C344CFC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EAD2-8223-4D6E-9357-186B32FA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3CA0-3BF6-4EF7-BA75-59CF95AD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826B-033A-44E5-801D-B9C47B1B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07CD-7323-4569-8E0A-CF08A978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13B7-F26C-4F5D-A0EF-A44C0D07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B64-D353-422D-99CE-6450A32D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66B-3B26-4645-BD59-7072E89C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545-D431-4F30-A36E-803029BD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7B4-7B26-4342-9C8A-24B2D0E2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D5C-F22E-4FC8-A16B-019DDDE1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B2F-523F-4206-AB21-C1EEC808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F27-FA6C-4EFE-A3AD-28E5B2CC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A6358-FCDC-4832-AEE1-D6B6F69F90F4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7148B-8B35-4ECE-BBA7-9C320859BCF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7B297-3DEF-4515-BA5B-1F1BDF4A4F09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373E4-A9D2-4EA4-8A89-FC2CDBE1D99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-23760" y="-6480"/>
            <a:ext cx="9174240" cy="2060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ne Gener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Rounded Rectangle 3"/>
          <p:cNvSpPr/>
          <p:nvPr/>
        </p:nvSpPr>
        <p:spPr>
          <a:xfrm>
            <a:off x="1371600" y="3332160"/>
            <a:ext cx="1579680" cy="2736720"/>
          </a:xfrm>
          <a:custGeom>
            <a:avLst/>
            <a:gdLst>
              <a:gd name="textAreaLeft" fmla="*/ 77040 w 1579680"/>
              <a:gd name="textAreaRight" fmla="*/ 1502640 w 1579680"/>
              <a:gd name="textAreaTop" fmla="*/ 77040 h 2736720"/>
              <a:gd name="textAreaBottom" fmla="*/ 2659680 h 2736720"/>
            </a:gdLst>
            <a:ahLst/>
            <a:rect l="textAreaLeft" t="textAreaTop" r="textAreaRight" b="textAreaBottom"/>
            <a:pathLst>
              <a:path w="21600" h="37417">
                <a:moveTo>
                  <a:pt x="3600" y="0"/>
                </a:moveTo>
                <a:arcTo wR="3600" hR="3600" stAng="16200000" swAng="-5400000"/>
                <a:lnTo>
                  <a:pt x="0" y="33817"/>
                </a:lnTo>
                <a:arcTo wR="3600" hR="3600" stAng="10800000" swAng="-5400000"/>
                <a:lnTo>
                  <a:pt x="18000" y="374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Rounded Rectangle 13"/>
          <p:cNvSpPr/>
          <p:nvPr/>
        </p:nvSpPr>
        <p:spPr>
          <a:xfrm>
            <a:off x="1488960" y="3443400"/>
            <a:ext cx="1360440" cy="2193840"/>
          </a:xfrm>
          <a:custGeom>
            <a:avLst/>
            <a:gdLst>
              <a:gd name="textAreaLeft" fmla="*/ 66240 w 1360440"/>
              <a:gd name="textAreaRight" fmla="*/ 1294200 w 1360440"/>
              <a:gd name="textAreaTop" fmla="*/ 66240 h 2193840"/>
              <a:gd name="textAreaBottom" fmla="*/ 2127600 h 2193840"/>
            </a:gdLst>
            <a:ahLst/>
            <a:rect l="textAreaLeft" t="textAreaTop" r="textAreaRight" b="textAreaBottom"/>
            <a:pathLst>
              <a:path w="21600" h="34829">
                <a:moveTo>
                  <a:pt x="3600" y="0"/>
                </a:moveTo>
                <a:arcTo wR="3600" hR="3600" stAng="16200000" swAng="-5400000"/>
                <a:lnTo>
                  <a:pt x="0" y="31229"/>
                </a:lnTo>
                <a:arcTo wR="3600" hR="3600" stAng="10800000" swAng="-5400000"/>
                <a:lnTo>
                  <a:pt x="18000" y="348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4d52"/>
          </a:soli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4481640" y="2376360"/>
            <a:ext cx="3268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reat for Teacher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et your class back on track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egin or end an activit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se to play gam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ultiple tones available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uzzers and whistl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ing ton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opular song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larm sound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vailable for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Phone, iPad,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c OSX, Window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763640" y="5119560"/>
            <a:ext cx="290520" cy="365400"/>
          </a:xfrm>
          <a:prstGeom prst="rect">
            <a:avLst/>
          </a:pr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206800" y="5119560"/>
            <a:ext cx="290160" cy="365400"/>
          </a:xfrm>
          <a:prstGeom prst="rect">
            <a:avLst/>
          </a:prstGeom>
          <a:solidFill>
            <a:srgbClr val="8c3f2c"/>
          </a:soli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3"/>
          <a:stretch/>
        </p:blipFill>
        <p:spPr>
          <a:xfrm>
            <a:off x="1601640" y="3697200"/>
            <a:ext cx="1062360" cy="876240"/>
          </a:xfrm>
          <a:prstGeom prst="rect">
            <a:avLst/>
          </a:prstGeom>
          <a:ln w="0">
            <a:noFill/>
          </a:ln>
        </p:spPr>
      </p:pic>
      <p:sp>
        <p:nvSpPr>
          <p:cNvPr id="90" name="Oval 11"/>
          <p:cNvSpPr/>
          <p:nvPr/>
        </p:nvSpPr>
        <p:spPr>
          <a:xfrm>
            <a:off x="1979640" y="5672160"/>
            <a:ext cx="306360" cy="322200"/>
          </a:xfrm>
          <a:prstGeom prst="ellipse">
            <a:avLst/>
          </a:prstGeom>
          <a:solidFill>
            <a:srgbClr val="4f4d52"/>
          </a:soli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23:12:55Z</dcterms:created>
  <dc:creator>Teacher</dc:creator>
  <dc:description/>
  <dc:language>en-US</dc:language>
  <cp:lastModifiedBy>Teacher</cp:lastModifiedBy>
  <dcterms:modified xsi:type="dcterms:W3CDTF">2010-11-22T23:36:33Z</dcterms:modified>
  <cp:revision>3</cp:revision>
  <dc:subject/>
  <dc:title>Gotcha!</dc:title>
</cp:coreProperties>
</file>